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1BEB-485B-40C2-8FCA-81A6E5F977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B875-1A4F-4EEC-8C19-2B1A1A76B70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1524-C10C-4042-ACF8-C4C0998FB413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66D1-2594-404E-B273-B71C96C592B0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80C0-7D69-42BF-B158-0D11F67A62B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09B7-B101-40FC-A8A8-5E746FFDDDC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10A0-552D-4368-BFE0-521786545B6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4BF9-9545-49F4-97BD-8A9D0B1DC15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2688-03FC-420B-8FB7-FD716546DC0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9924-D065-4B62-8B51-3B6C3D38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C53-5544-4042-8F87-9AF5C5DE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EB9-9763-4538-BF61-E3F7547A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EA4-1529-4258-87E4-77771F0C0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99A2-8974-48AF-9D7C-428E331E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94EB-F3E8-466F-B1A3-5C644C7B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3B94-EE63-4EDB-A658-33D3245D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A0DC5-5D85-4614-880C-B1E0A3BF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86C6-E533-4A1C-A4DE-625AFA05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1E92-1184-41D5-B0DD-B379BBD4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2B75-3D5C-49DB-B046-507E02FA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177-A19B-4B22-9F0C-79C1F7D3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9B62-C6AB-471A-A7E3-AB29CAFC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DACD-EC36-45DB-889A-33671C9F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939C-8A53-4064-B3DE-48011085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7796-AF69-4172-8D9D-4F665813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D3524-7E24-4183-AB6E-428D26E3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B2F-4D41-4F25-BE5F-17860547D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AAA3-F03D-454F-A313-971D4073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9CD-566D-4D55-ADED-35A56EE6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2FE-064F-4B79-A76C-903BEF3D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4DE-09E6-44F7-9711-5FD584B4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56F-5E4D-4030-89F8-6AACB8A7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15F-4046-4FF4-AB19-7F77E625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4475-DD36-4620-ABCD-320A2A5F3EA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4487-FA4E-4F5B-AD69-6662D92B022D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v.proskurovska@ebf-fbe.eu" TargetMode="External"/><Relationship Id="rId2" Type="http://schemas.openxmlformats.org/officeDocument/2006/relationships/hyperlink" Target="http://www.ebf-fbe.eu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uropean Banking Sector</a:t>
            </a:r>
            <a:br>
              <a:rPr sz="28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 a period of Global Financial and Economic Crisi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429080"/>
            <a:ext cx="6400800" cy="12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66cc"/>
                </a:solidFill>
                <a:latin typeface="Times New Roman"/>
              </a:rPr>
              <a:t>Adviser, Economic and Monetary Affairs and Relations with Associates of the European Banking Federation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214800" y="285840"/>
            <a:ext cx="5500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10</a:t>
            </a:r>
            <a:r>
              <a:rPr b="1" lang="en-GB" sz="1800" spc="-1" strike="noStrike" baseline="30000">
                <a:solidFill>
                  <a:srgbClr val="005cad"/>
                </a:solidFill>
                <a:latin typeface="Arial"/>
              </a:rPr>
              <a:t>th</a:t>
            </a:r>
            <a:r>
              <a:rPr b="1" lang="en-GB" sz="1800" spc="-1" strike="noStrike">
                <a:solidFill>
                  <a:srgbClr val="005cad"/>
                </a:solidFill>
                <a:latin typeface="Arial"/>
              </a:rPr>
              <a:t> Inter-Balkan Forum of Banking Associations</a:t>
            </a: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5cad"/>
                </a:solidFill>
                <a:latin typeface="Arial"/>
              </a:rPr>
              <a:t>16 October 2009 - Sarajevo, Bosnia &amp; Herzegovina</a:t>
            </a:r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AC42-4115-4999-8214-42B9D6213CDC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ignificance of the crisi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vaporation of liquidity in the inter-banking market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Bankruptcies of financial giants, causing systemic risk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Loss of public trust in the financial sector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eterioration in general economic conditio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-3394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 of the government share in the private sector (causing unlevel playing field).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66cc"/>
                </a:solidFill>
                <a:latin typeface="Times New Roman"/>
              </a:rPr>
              <a:t>Global estimated loss</a:t>
            </a:r>
            <a:r>
              <a:rPr b="0" lang="fr-FR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D 3.4 trillion (about € 2.3 trillion)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GDP might fall by 4% in 2009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US GDP may decrease 2.6% in 2009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bank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flect on their weakness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duce their costs and improve return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lean-up their balance shee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dapt their business strategi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559E-B40B-4CE8-8DAA-BC77D2D75874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action of the ECB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and national govern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re liquidity and capital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-area Governments committed about 35% of GDP to financial sector support measur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rosystem’s balance sheet had almost doubled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gative consequen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creased public ownership in the EU banking secto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75F2-8DDD-48C4-AD03-080972B3D7C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gulatory response by the European Commis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U Commission is working on the body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legislation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n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ory architecture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apital requirement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ccounting principl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muneration policie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edge funds, UCITS, etc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o ensure the right incentives, reduce gold-plating, and strengthen risk management and prudential oversight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57B5-653B-4967-A90F-1A2C2819EC9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e EURO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enefit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of euro membership: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confidence in the currency (avoid sharp devaluation during crisis)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CB measures to enhance market liquidity enabled euro area countries to avoid a credit squeeze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halleng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Differences in the pricing of euro member countries’ debt and credit default insurance have widened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D51C-A54C-487F-AC96-DB8A3B42D74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nclus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Current EU-level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ioriti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are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ed for effective 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government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exit strateg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CB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facilitating the working of financial market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EU authoritie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finalise their proposal for the Regulation on banking supervision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banks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 to continue their operations while reforming internal procedures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CC38-200C-4A08-858A-AEF54A41B4A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Thank you!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For contacts: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Viktorija Proskurovska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Adviser in Economic and Monetary Affairs, Associates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European Banking Federat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v.proskurovska@ebf-fbe.eu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ebf-fbe.eu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A60E-E3B3-4288-BF6B-8F0A41D1127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09:21:47Z</dcterms:created>
  <dc:creator>Viktorija Proskurovska</dc:creator>
  <dc:description/>
  <dc:language>en-US</dc:language>
  <cp:lastModifiedBy>Viktorija Proskurovska</cp:lastModifiedBy>
  <dcterms:modified xsi:type="dcterms:W3CDTF">2009-10-09T13:05:37Z</dcterms:modified>
  <cp:revision>16</cp:revision>
  <dc:subject/>
  <dc:title>Европейский банковский сектор  в период глобального финансово-экономического кризиса</dc:title>
</cp:coreProperties>
</file>